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B2D-5E35-4862-AA85-CD1612E9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ABF-BCD7-4A21-9E5B-979DA3AB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66D-67DB-40A5-8B82-DAB1B773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311-8488-4BA9-B885-7A897FC5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A25A-B552-4F52-B16F-F1AF0CE4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77BC-C567-480A-BF1A-D8865EB5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DD51-052E-480D-96F4-ABA70280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F748-D60E-4DB2-9EDB-9C0E4A55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05E0-0B0A-4315-9E36-BBD50889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93C0-1C27-4EEE-88E1-6D745D78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9446-D36F-448E-B76C-29D6037C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4E6-CFF8-464A-AAB0-9219BC90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3835-700A-444C-8195-D2C281C0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8D75-E42B-4D07-90D3-9A711EDA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4C04-7404-4AE1-A53C-A54D6E9D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1694-7058-4AEE-97B0-3956B5AC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1D00-4544-4548-8AC6-256E0E4D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257-15A7-43DA-8A85-656C6DBA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EA1-E693-4DB5-BC61-FAFFD666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355-4739-46CE-BB7F-20FEC5FB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14F-17FA-4CBC-B9F2-E4321DC9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AFD-4585-4142-B7FF-34F18530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E5C-55BE-4B65-A3D7-9D1F4C33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1F4-02ED-462E-9CF8-89D232D0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dna63" descr=""/>
            <p:cNvPicPr/>
            <p:nvPr/>
          </p:nvPicPr>
          <p:blipFill>
            <a:blip r:embed="rId2"/>
            <a:stretch/>
          </p:blipFill>
          <p:spPr>
            <a:xfrm>
              <a:off x="0" y="1781280"/>
              <a:ext cx="9144000" cy="25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dna6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dna63" descr=""/>
            <p:cNvPicPr/>
            <p:nvPr/>
          </p:nvPicPr>
          <p:blipFill>
            <a:blip r:embed="rId4"/>
            <a:stretch/>
          </p:blipFill>
          <p:spPr>
            <a:xfrm>
              <a:off x="0" y="4295880"/>
              <a:ext cx="9144000" cy="25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afa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afa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B393-C3CB-4478-B3DB-F96B1CC025FD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6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7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8578-0C2E-4561-8DFD-FFEBDA7FF97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cc.gmu.edu/dna/mRNAanim.htm" TargetMode="External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cc.gmu.edu/dna/ANIMPROT.ht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577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afa"/>
                </a:solidFill>
                <a:latin typeface="Times New Roman"/>
              </a:rPr>
              <a:t>Understanding RNA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50320" y="2438280"/>
            <a:ext cx="260244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8fafa"/>
                </a:solidFill>
                <a:uFillTx/>
                <a:latin typeface="Arial"/>
              </a:rPr>
              <a:t>R</a:t>
            </a:r>
            <a:r>
              <a:rPr b="0" lang="en-US" sz="3500" spc="-1" strike="noStrike">
                <a:solidFill>
                  <a:srgbClr val="f8fafa"/>
                </a:solidFill>
                <a:latin typeface="Arial"/>
              </a:rPr>
              <a:t>ibo</a:t>
            </a:r>
            <a:r>
              <a:rPr b="0" lang="en-US" sz="3500" spc="-1" strike="noStrike" u="sng">
                <a:solidFill>
                  <a:srgbClr val="f8fafa"/>
                </a:solidFill>
                <a:uFillTx/>
                <a:latin typeface="Arial"/>
              </a:rPr>
              <a:t>n</a:t>
            </a:r>
            <a:r>
              <a:rPr b="0" lang="en-US" sz="3500" spc="-1" strike="noStrike">
                <a:solidFill>
                  <a:srgbClr val="f8fafa"/>
                </a:solidFill>
                <a:latin typeface="Arial"/>
              </a:rPr>
              <a:t>ucleic 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8fafa"/>
                </a:solidFill>
                <a:uFillTx/>
                <a:latin typeface="Arial"/>
              </a:rPr>
              <a:t>A</a:t>
            </a:r>
            <a:r>
              <a:rPr b="0" lang="en-US" sz="3500" spc="-1" strike="noStrike">
                <a:solidFill>
                  <a:srgbClr val="f8fafa"/>
                </a:solidFill>
                <a:latin typeface="Arial"/>
              </a:rPr>
              <a:t>cid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32760" y="1546200"/>
            <a:ext cx="0" cy="880920"/>
          </a:xfrm>
          <a:prstGeom prst="line">
            <a:avLst/>
          </a:prstGeom>
          <a:ln w="25560">
            <a:solidFill>
              <a:srgbClr val="f8faf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52120" y="2147760"/>
            <a:ext cx="687564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Protein Synthesis:</a:t>
            </a:r>
            <a:endParaRPr b="1" i="1" lang="en-US" sz="5000" spc="-1" strike="noStrike">
              <a:solidFill>
                <a:srgbClr val="f8fafa"/>
              </a:solidFill>
              <a:latin typeface="Times New Roman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How Proteins are Made</a:t>
            </a:r>
            <a:endParaRPr b="1" i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76600" y="1712880"/>
            <a:ext cx="4871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afa"/>
                </a:solidFill>
                <a:latin typeface="Times New Roman"/>
              </a:rPr>
              <a:t>Making Proteins is a Two Step Process:</a:t>
            </a:r>
            <a:endParaRPr b="0" lang="en-US" sz="5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85920" y="1889280"/>
            <a:ext cx="62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   </a:t>
            </a:r>
            <a:r>
              <a:rPr b="1" lang="en-US" sz="4000" spc="-1" strike="noStrike" u="sng">
                <a:solidFill>
                  <a:srgbClr val="f8fafa"/>
                </a:solidFill>
                <a:uFillTx/>
                <a:latin typeface="Times New Roman"/>
              </a:rPr>
              <a:t>Transcription</a:t>
            </a: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– making a mRNA copy of DNA; occurs in the nucleus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06920" y="365040"/>
            <a:ext cx="179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8fafa"/>
                </a:solidFill>
                <a:latin typeface="Times New Roman"/>
              </a:rPr>
              <a:t>Step 1:</a:t>
            </a:r>
            <a:endParaRPr b="0" lang="en-US" sz="45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640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Why Transcription?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68560" y="2014560"/>
            <a:ext cx="65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8fafa"/>
                </a:solidFill>
                <a:latin typeface="Arial"/>
              </a:rPr>
              <a:t>DNA contains volumes of information about making protein.</a:t>
            </a:r>
            <a:endParaRPr b="1" i="1" lang="en-US" sz="3900" spc="-1" strike="noStrike">
              <a:solidFill>
                <a:srgbClr val="f8faf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8fafa"/>
                </a:solidFill>
                <a:latin typeface="Arial"/>
              </a:rPr>
              <a:t>Unfortunately, DNA is too huge to leave the nucleus but the protein is made in the ribosomes.</a:t>
            </a:r>
            <a:endParaRPr b="1" i="1" lang="en-US" sz="3900" spc="-1" strike="noStrike">
              <a:solidFill>
                <a:srgbClr val="f8faf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9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2360" y="963720"/>
            <a:ext cx="575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Don’t Write This Slide, Just Read!!!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4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Summary of Transcription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971720" y="1971720"/>
            <a:ext cx="6384960" cy="1374840"/>
            <a:chOff x="1971720" y="1971720"/>
            <a:chExt cx="6384960" cy="1374840"/>
          </a:xfrm>
        </p:grpSpPr>
        <p:sp>
          <p:nvSpPr>
            <p:cNvPr id="180" name=""/>
            <p:cNvSpPr/>
            <p:nvPr/>
          </p:nvSpPr>
          <p:spPr>
            <a:xfrm>
              <a:off x="1971720" y="1971720"/>
              <a:ext cx="638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buClr>
                  <a:srgbClr val="f8fafa"/>
                </a:buClr>
                <a:buFont typeface="Times New Roman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The DNA molecule unzips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41680" y="2643120"/>
              <a:ext cx="508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at the nitrogen bases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081160" y="3676680"/>
            <a:ext cx="6616800" cy="2081520"/>
            <a:chOff x="2081160" y="3676680"/>
            <a:chExt cx="6616800" cy="2081520"/>
          </a:xfrm>
        </p:grpSpPr>
        <p:sp>
          <p:nvSpPr>
            <p:cNvPr id="183" name=""/>
            <p:cNvSpPr/>
            <p:nvPr/>
          </p:nvSpPr>
          <p:spPr>
            <a:xfrm>
              <a:off x="2081160" y="3676680"/>
              <a:ext cx="661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buClr>
                  <a:srgbClr val="f8fafa"/>
                </a:buClr>
                <a:buFont typeface="Times New Roman"/>
                <a:buAutoNum type="alpha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  </a:t>
              </a: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mRNA nucleotides pair up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27440" y="4371840"/>
              <a:ext cx="505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with DNA nucleotides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76400" y="5054760"/>
              <a:ext cx="360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(one side)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Summary of Transcription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21000" y="1990800"/>
            <a:ext cx="63309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C.  DNA “rezips” and mRNA      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leaves the nucleus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8" name="">
            <a:hlinkClick r:id="rId1"/>
          </p:cNvPr>
          <p:cNvSpPr/>
          <p:nvPr/>
        </p:nvSpPr>
        <p:spPr>
          <a:xfrm>
            <a:off x="2097000" y="4861080"/>
            <a:ext cx="586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ick Here for Transcription Animation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000160" y="2333520"/>
            <a:ext cx="598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8fafa"/>
                </a:solidFill>
                <a:uFillTx/>
                <a:latin typeface="Times New Roman"/>
              </a:rPr>
              <a:t>Translation</a:t>
            </a: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– amino acids are being assembled into proteins; occurs in the ribosomes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24120" y="647640"/>
            <a:ext cx="217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afa"/>
                </a:solidFill>
                <a:latin typeface="Times New Roman"/>
              </a:rPr>
              <a:t>Step 2:</a:t>
            </a:r>
            <a:endParaRPr b="0" lang="en-US" sz="5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1040" y="-360"/>
            <a:ext cx="835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f8fafa"/>
                </a:solidFill>
                <a:latin typeface="Times New Roman"/>
              </a:rPr>
              <a:t>Summary of Translation</a:t>
            </a: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97000" y="1393920"/>
            <a:ext cx="668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A.  mRNA enters the ribosome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187720" y="2455920"/>
            <a:ext cx="6956280" cy="2171880"/>
            <a:chOff x="2187720" y="2455920"/>
            <a:chExt cx="6956280" cy="2171880"/>
          </a:xfrm>
        </p:grpSpPr>
        <p:sp>
          <p:nvSpPr>
            <p:cNvPr id="194" name=""/>
            <p:cNvSpPr/>
            <p:nvPr/>
          </p:nvSpPr>
          <p:spPr>
            <a:xfrm>
              <a:off x="2187720" y="2455920"/>
              <a:ext cx="69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B.  3 mRNA nucleotides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11520" y="3108240"/>
              <a:ext cx="64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(codons) pair up with 3 tRNA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43200" y="3924360"/>
              <a:ext cx="580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nucleotides (anticodons)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097000" y="4916520"/>
            <a:ext cx="7047000" cy="1406520"/>
            <a:chOff x="2097000" y="4916520"/>
            <a:chExt cx="7047000" cy="1406520"/>
          </a:xfrm>
        </p:grpSpPr>
        <p:sp>
          <p:nvSpPr>
            <p:cNvPr id="198" name=""/>
            <p:cNvSpPr/>
            <p:nvPr/>
          </p:nvSpPr>
          <p:spPr>
            <a:xfrm>
              <a:off x="2097000" y="4916520"/>
              <a:ext cx="681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C.  amino acids are added until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25640" y="5619600"/>
              <a:ext cx="631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the “stop” message is reached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1"/>
          </p:cNvPr>
          <p:cNvSpPr/>
          <p:nvPr/>
        </p:nvSpPr>
        <p:spPr>
          <a:xfrm>
            <a:off x="2644920" y="2382840"/>
            <a:ext cx="5538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ick Here for Translation Animation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36600" y="1143000"/>
            <a:ext cx="64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* </a:t>
            </a:r>
            <a:r>
              <a:rPr b="0" lang="en-US" sz="4000" spc="-1" strike="noStrike" u="sng">
                <a:solidFill>
                  <a:srgbClr val="f8fafa"/>
                </a:solidFill>
                <a:uFillTx/>
                <a:latin typeface="Times New Roman"/>
              </a:rPr>
              <a:t>Codon</a:t>
            </a: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– three mRNA bases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41560" y="235440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* </a:t>
            </a:r>
            <a:r>
              <a:rPr b="0" lang="en-US" sz="4000" spc="-1" strike="noStrike" u="sng">
                <a:solidFill>
                  <a:srgbClr val="f8fafa"/>
                </a:solidFill>
                <a:uFillTx/>
                <a:latin typeface="Times New Roman"/>
              </a:rPr>
              <a:t>Anticodon</a:t>
            </a:r>
            <a:r>
              <a:rPr b="0" lang="en-US" sz="4000" spc="-1" strike="noStrike">
                <a:solidFill>
                  <a:srgbClr val="f8fafa"/>
                </a:solidFill>
                <a:latin typeface="Times New Roman"/>
              </a:rPr>
              <a:t> – three tRNA bases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168640" y="3857760"/>
            <a:ext cx="6705360" cy="2149560"/>
            <a:chOff x="2168640" y="3857760"/>
            <a:chExt cx="6705360" cy="2149560"/>
          </a:xfrm>
        </p:grpSpPr>
        <p:sp>
          <p:nvSpPr>
            <p:cNvPr id="204" name=""/>
            <p:cNvSpPr/>
            <p:nvPr/>
          </p:nvSpPr>
          <p:spPr>
            <a:xfrm>
              <a:off x="2168640" y="3857760"/>
              <a:ext cx="6705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* 1 codon makes 1 amino acid;   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11360" y="4573800"/>
              <a:ext cx="508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3 nitrogen bases makes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27200" y="5303880"/>
              <a:ext cx="4055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Times New Roman"/>
                </a:rPr>
                <a:t>1 amino acid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36320" y="79200"/>
            <a:ext cx="631044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2559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afa"/>
                </a:solidFill>
                <a:latin typeface="Arial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8fafa"/>
                </a:solidFill>
                <a:latin typeface="Arial"/>
                <a:ea typeface="Times New Roman"/>
              </a:rPr>
              <a:t>.  Made of Nucleotides:</a:t>
            </a:r>
            <a:endParaRPr b="1" i="1" lang="en-US" sz="4000" spc="-1" strike="noStrike">
              <a:solidFill>
                <a:srgbClr val="f8fafa"/>
              </a:solidFill>
              <a:latin typeface="Times New Roman"/>
            </a:endParaRPr>
          </a:p>
          <a:p>
            <a:pPr marL="255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afa"/>
                </a:solidFill>
                <a:latin typeface="Arial"/>
              </a:rPr>
              <a:t>    </a:t>
            </a:r>
            <a:endParaRPr b="1" i="1" lang="en-US" sz="3200" spc="-1" strike="noStrike">
              <a:solidFill>
                <a:srgbClr val="f8fafa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01880" y="3495600"/>
            <a:ext cx="7004160" cy="3234600"/>
            <a:chOff x="1901880" y="3495600"/>
            <a:chExt cx="7004160" cy="3234600"/>
          </a:xfrm>
        </p:grpSpPr>
        <p:grpSp>
          <p:nvGrpSpPr>
            <p:cNvPr id="93" name=""/>
            <p:cNvGrpSpPr/>
            <p:nvPr/>
          </p:nvGrpSpPr>
          <p:grpSpPr>
            <a:xfrm>
              <a:off x="6599160" y="5018040"/>
              <a:ext cx="2306880" cy="1712160"/>
              <a:chOff x="6599160" y="5018040"/>
              <a:chExt cx="2306880" cy="1712160"/>
            </a:xfrm>
          </p:grpSpPr>
          <p:sp>
            <p:nvSpPr>
              <p:cNvPr id="94" name=""/>
              <p:cNvSpPr/>
              <p:nvPr/>
            </p:nvSpPr>
            <p:spPr>
              <a:xfrm rot="20988600">
                <a:off x="7437240" y="5399280"/>
                <a:ext cx="1371600" cy="1218960"/>
              </a:xfrm>
              <a:prstGeom prst="hexagon">
                <a:avLst>
                  <a:gd name="adj" fmla="val 28131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99160" y="5018040"/>
                <a:ext cx="1066680" cy="1143000"/>
              </a:xfrm>
              <a:prstGeom prst="pentagon">
                <a:avLst/>
              </a:prstGeom>
              <a:solidFill>
                <a:srgbClr val="ff9900"/>
              </a:solidFill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>
              <a:off x="5197680" y="5514840"/>
              <a:ext cx="1452240" cy="7560"/>
            </a:xfrm>
            <a:prstGeom prst="line">
              <a:avLst/>
            </a:prstGeom>
            <a:ln w="38160">
              <a:solidFill>
                <a:srgbClr val="f8fa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2200">
              <a:off x="2490480" y="4895640"/>
              <a:ext cx="2743200" cy="1600200"/>
            </a:xfrm>
            <a:prstGeom prst="pentagon">
              <a:avLst/>
            </a:prstGeom>
            <a:solidFill>
              <a:srgbClr val="ff0000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1880" y="3495600"/>
              <a:ext cx="1182600" cy="927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506680" y="4422960"/>
              <a:ext cx="0" cy="1093680"/>
            </a:xfrm>
            <a:prstGeom prst="line">
              <a:avLst/>
            </a:prstGeom>
            <a:ln w="38160">
              <a:solidFill>
                <a:srgbClr val="f8fa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573360" y="5403960"/>
            <a:ext cx="7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525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60440" y="36241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525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80280" y="5452920"/>
            <a:ext cx="9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525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757520"/>
            <a:ext cx="48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B.  Phosphate Group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843120"/>
            <a:ext cx="53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A.  Sugar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ibose</a:t>
            </a: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)  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571840"/>
            <a:ext cx="54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.  Nitrogen Base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08240" y="259920"/>
            <a:ext cx="321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Example: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162160"/>
            <a:ext cx="914400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TAC – AGG – GGT - ACG – CCG – AAT – GGG – ATT –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040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tRNA: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087880"/>
            <a:ext cx="891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mino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cid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160720"/>
            <a:ext cx="12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endParaRPr b="0" lang="en-US" sz="3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92480"/>
            <a:ext cx="127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RNA: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79560" y="317484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C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09800" y="317484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22760" y="3174840"/>
            <a:ext cx="11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G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7920" y="317484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G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02400" y="3174840"/>
            <a:ext cx="12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U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35880" y="317484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64320" y="317484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AA -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63520" y="31748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U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08240" y="259920"/>
            <a:ext cx="321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Example: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62160" y="2146320"/>
            <a:ext cx="500364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GCA – AAT- T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60720" y="3174840"/>
            <a:ext cx="443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95640" y="3990960"/>
            <a:ext cx="455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tRNA: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4838760"/>
            <a:ext cx="664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mino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cid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9720" y="3173400"/>
            <a:ext cx="12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RNA: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41520" y="3173400"/>
            <a:ext cx="106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GU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24160" y="3173400"/>
            <a:ext cx="121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UUA 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21360" y="3173400"/>
            <a:ext cx="113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- AAU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08240" y="259920"/>
            <a:ext cx="321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Example: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162160"/>
            <a:ext cx="914400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TAC – AGG – GGT - ACG – CCG – AAT – GGG – ATT –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1924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RNA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UG – UCC – CCA – UGC – GGC – UUA – CCC – UAA -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087880"/>
            <a:ext cx="891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mino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cid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040280"/>
            <a:ext cx="113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tRNA: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30400" y="399096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UA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78120" y="3990960"/>
            <a:ext cx="12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G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43280" y="3990960"/>
            <a:ext cx="12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GGU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55880" y="39909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56240" y="399096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CC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70720" y="399096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AU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34080" y="3990960"/>
            <a:ext cx="12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GG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8480" y="3990960"/>
            <a:ext cx="13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UU -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08240" y="259920"/>
            <a:ext cx="321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Example: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62160" y="2146320"/>
            <a:ext cx="500364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GCA – AAT- T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0720" y="3174840"/>
            <a:ext cx="443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RNA: CGU – UUA - AAU</a:t>
            </a:r>
            <a:endParaRPr b="0" lang="en-US" sz="2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60800" y="3957480"/>
            <a:ext cx="121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GCA 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95640" y="4838760"/>
            <a:ext cx="664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mino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Acid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27240" y="395748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tRNA: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89240" y="3957480"/>
            <a:ext cx="13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AAU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37200" y="3957480"/>
            <a:ext cx="117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- UUA</a:t>
            </a:r>
            <a:endParaRPr b="0" lang="en-US" sz="2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709720" y="2908440"/>
            <a:ext cx="4972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afa"/>
                </a:solidFill>
                <a:latin typeface="Times New Roman"/>
              </a:rPr>
              <a:t>Use </a:t>
            </a:r>
            <a:r>
              <a:rPr b="0" lang="en-US" sz="5000" spc="-1" strike="noStrike" u="sng">
                <a:solidFill>
                  <a:srgbClr val="f8fafa"/>
                </a:solidFill>
                <a:uFillTx/>
                <a:latin typeface="Times New Roman"/>
              </a:rPr>
              <a:t>mRNA</a:t>
            </a:r>
            <a:r>
              <a:rPr b="0" lang="en-US" sz="5000" spc="-1" strike="noStrike">
                <a:solidFill>
                  <a:srgbClr val="f8fafa"/>
                </a:solidFill>
                <a:latin typeface="Times New Roman"/>
              </a:rPr>
              <a:t> to find the Amino Acid on the Chart</a:t>
            </a:r>
            <a:endParaRPr b="0" lang="en-US" sz="5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11320" y="415800"/>
            <a:ext cx="679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rite this on the bottom of your “Chart of Amino Acids”: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520" y="906480"/>
            <a:ext cx="9318240" cy="4800600"/>
            <a:chOff x="2520" y="906480"/>
            <a:chExt cx="9318240" cy="4800600"/>
          </a:xfrm>
        </p:grpSpPr>
        <p:grpSp>
          <p:nvGrpSpPr>
            <p:cNvPr id="254" name=""/>
            <p:cNvGrpSpPr/>
            <p:nvPr/>
          </p:nvGrpSpPr>
          <p:grpSpPr>
            <a:xfrm>
              <a:off x="971640" y="1363680"/>
              <a:ext cx="7286760" cy="4343400"/>
              <a:chOff x="971640" y="1363680"/>
              <a:chExt cx="7286760" cy="434340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976680" y="1366920"/>
                <a:ext cx="7275600" cy="4336560"/>
                <a:chOff x="976680" y="1366920"/>
                <a:chExt cx="7275600" cy="433656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976680" y="1366920"/>
                  <a:ext cx="1211400" cy="529200"/>
                  <a:chOff x="976680" y="1366920"/>
                  <a:chExt cx="1211400" cy="5292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053720" y="1366920"/>
                    <a:ext cx="105696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2d2525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976680" y="1366920"/>
                    <a:ext cx="121140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188440" y="1366920"/>
                  <a:ext cx="1303200" cy="529200"/>
                  <a:chOff x="2188440" y="1366920"/>
                  <a:chExt cx="1303200" cy="529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265480" y="1366920"/>
                    <a:ext cx="114876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188440" y="1366920"/>
                    <a:ext cx="130320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3492360" y="1366920"/>
                  <a:ext cx="1121760" cy="529200"/>
                  <a:chOff x="3492360" y="1366920"/>
                  <a:chExt cx="1121760" cy="5292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569040" y="1366920"/>
                    <a:ext cx="96804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492360" y="1366920"/>
                    <a:ext cx="112176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4614480" y="1366920"/>
                  <a:ext cx="1380240" cy="529200"/>
                  <a:chOff x="4614480" y="1366920"/>
                  <a:chExt cx="1380240" cy="5292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4691520" y="1366920"/>
                    <a:ext cx="122580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4614480" y="1366920"/>
                    <a:ext cx="138024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5995440" y="1366920"/>
                  <a:ext cx="1121760" cy="529200"/>
                  <a:chOff x="5995440" y="1366920"/>
                  <a:chExt cx="1121760" cy="5292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6072120" y="1366920"/>
                    <a:ext cx="96804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995440" y="1366920"/>
                    <a:ext cx="112176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117560" y="1366920"/>
                  <a:ext cx="1134720" cy="529200"/>
                  <a:chOff x="7117560" y="1366920"/>
                  <a:chExt cx="1134720" cy="5292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7194600" y="1366920"/>
                    <a:ext cx="980280" cy="52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2d2525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117560" y="1366920"/>
                    <a:ext cx="1134720" cy="529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976680" y="1896120"/>
                  <a:ext cx="1211400" cy="1078560"/>
                  <a:chOff x="976680" y="1896120"/>
                  <a:chExt cx="1211400" cy="10785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053720" y="1896120"/>
                    <a:ext cx="105696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976680" y="1896120"/>
                    <a:ext cx="121140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2188440" y="1896120"/>
                  <a:ext cx="1303200" cy="1078560"/>
                  <a:chOff x="2188440" y="1896120"/>
                  <a:chExt cx="1303200" cy="107856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2265480" y="1896120"/>
                    <a:ext cx="114876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henyl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henyl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188440" y="1896120"/>
                    <a:ext cx="130320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3492360" y="1896120"/>
                  <a:ext cx="1121760" cy="1078560"/>
                  <a:chOff x="3492360" y="1896120"/>
                  <a:chExt cx="1121760" cy="10785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3569040" y="1896120"/>
                    <a:ext cx="96804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492360" y="1896120"/>
                    <a:ext cx="112176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4614480" y="1896120"/>
                  <a:ext cx="1380240" cy="1078560"/>
                  <a:chOff x="4614480" y="1896120"/>
                  <a:chExt cx="1380240" cy="107856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91520" y="1896120"/>
                    <a:ext cx="122580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yros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yros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top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top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14480" y="1896120"/>
                    <a:ext cx="138024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5995440" y="1896120"/>
                  <a:ext cx="1121760" cy="1078560"/>
                  <a:chOff x="5995440" y="1896120"/>
                  <a:chExt cx="1121760" cy="10785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6072120" y="1896120"/>
                    <a:ext cx="96804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yste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yste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top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ryptophan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995440" y="1896120"/>
                    <a:ext cx="112176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117560" y="1896120"/>
                  <a:ext cx="1134720" cy="1078560"/>
                  <a:chOff x="7117560" y="1896120"/>
                  <a:chExt cx="1134720" cy="10785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7194600" y="1896120"/>
                    <a:ext cx="98028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117560" y="1896120"/>
                    <a:ext cx="113472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976680" y="2974680"/>
                  <a:ext cx="1211400" cy="825120"/>
                  <a:chOff x="976680" y="2974680"/>
                  <a:chExt cx="1211400" cy="8251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1053720" y="2974680"/>
                    <a:ext cx="105696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976680" y="2974680"/>
                    <a:ext cx="121140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2188440" y="2974680"/>
                  <a:ext cx="1303200" cy="825120"/>
                  <a:chOff x="2188440" y="2974680"/>
                  <a:chExt cx="1303200" cy="8251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2265480" y="2974680"/>
                    <a:ext cx="114876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188440" y="2974680"/>
                    <a:ext cx="130320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3492360" y="2974680"/>
                  <a:ext cx="1121760" cy="825120"/>
                  <a:chOff x="3492360" y="2974680"/>
                  <a:chExt cx="1121760" cy="8251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3569040" y="2974680"/>
                    <a:ext cx="96804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ro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ro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ro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Pro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492360" y="2974680"/>
                    <a:ext cx="112176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4614480" y="2974680"/>
                  <a:ext cx="1380240" cy="825120"/>
                  <a:chOff x="4614480" y="2974680"/>
                  <a:chExt cx="1380240" cy="8251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4691520" y="2974680"/>
                    <a:ext cx="122580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Histid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Histid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utam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utam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614480" y="2974680"/>
                    <a:ext cx="138024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5995440" y="2974680"/>
                  <a:ext cx="1121760" cy="825120"/>
                  <a:chOff x="5995440" y="2974680"/>
                  <a:chExt cx="1121760" cy="8251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6072120" y="2974680"/>
                    <a:ext cx="96804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995440" y="2974680"/>
                    <a:ext cx="112176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7117560" y="2974680"/>
                  <a:ext cx="1134720" cy="825120"/>
                  <a:chOff x="7117560" y="2974680"/>
                  <a:chExt cx="1134720" cy="8251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194600" y="2974680"/>
                    <a:ext cx="98028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117560" y="2974680"/>
                    <a:ext cx="1134720" cy="825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976680" y="3800160"/>
                  <a:ext cx="1211400" cy="824760"/>
                  <a:chOff x="976680" y="3800160"/>
                  <a:chExt cx="1211400" cy="82476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1053720" y="3800160"/>
                    <a:ext cx="105696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976680" y="3800160"/>
                    <a:ext cx="121140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2188440" y="3800160"/>
                  <a:ext cx="1303200" cy="824760"/>
                  <a:chOff x="2188440" y="3800160"/>
                  <a:chExt cx="1303200" cy="82476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2265480" y="3800160"/>
                    <a:ext cx="114876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Iso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Iso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Isoleu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Methio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88440" y="3800160"/>
                    <a:ext cx="130320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3492360" y="3800160"/>
                  <a:ext cx="1121760" cy="824760"/>
                  <a:chOff x="3492360" y="3800160"/>
                  <a:chExt cx="1121760" cy="8247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3569040" y="3800160"/>
                    <a:ext cx="96804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hreo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hreo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hreo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Threo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492360" y="3800160"/>
                    <a:ext cx="112176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4614480" y="3800160"/>
                  <a:ext cx="1380240" cy="824760"/>
                  <a:chOff x="4614480" y="3800160"/>
                  <a:chExt cx="1380240" cy="82476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4691520" y="3800160"/>
                    <a:ext cx="122580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sparag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sparag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ys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Lys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614480" y="3800160"/>
                    <a:ext cx="138024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5995440" y="3800160"/>
                  <a:ext cx="1121760" cy="824760"/>
                  <a:chOff x="5995440" y="3800160"/>
                  <a:chExt cx="1121760" cy="82476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6072120" y="3800160"/>
                    <a:ext cx="96804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Ser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rgi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995440" y="3800160"/>
                    <a:ext cx="112176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7117560" y="3800160"/>
                  <a:ext cx="1134720" cy="824760"/>
                  <a:chOff x="7117560" y="3800160"/>
                  <a:chExt cx="1134720" cy="8247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7194600" y="3800160"/>
                    <a:ext cx="980280" cy="82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7117560" y="3800160"/>
                    <a:ext cx="1134720" cy="82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976680" y="4624920"/>
                  <a:ext cx="1211400" cy="1078560"/>
                  <a:chOff x="976680" y="4624920"/>
                  <a:chExt cx="1211400" cy="107856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1053720" y="4624920"/>
                    <a:ext cx="105696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976680" y="4624920"/>
                    <a:ext cx="121140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2188440" y="4624920"/>
                  <a:ext cx="1303200" cy="1078560"/>
                  <a:chOff x="2188440" y="4624920"/>
                  <a:chExt cx="1303200" cy="10785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2265480" y="4624920"/>
                    <a:ext cx="114876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Va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Va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Va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Val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188440" y="4624920"/>
                    <a:ext cx="130320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3492360" y="4624920"/>
                  <a:ext cx="1121760" cy="1078560"/>
                  <a:chOff x="3492360" y="4624920"/>
                  <a:chExt cx="1121760" cy="107856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3569040" y="4624920"/>
                    <a:ext cx="96804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lan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492360" y="4624920"/>
                    <a:ext cx="112176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4614480" y="4624920"/>
                  <a:ext cx="1380240" cy="1078560"/>
                  <a:chOff x="4614480" y="4624920"/>
                  <a:chExt cx="1380240" cy="10785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4691520" y="4624920"/>
                    <a:ext cx="122580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spartic Acid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spartic Acid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utamic Acid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utamic Acid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614480" y="4624920"/>
                    <a:ext cx="138024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5995440" y="4624920"/>
                  <a:ext cx="1121760" cy="1078560"/>
                  <a:chOff x="5995440" y="4624920"/>
                  <a:chExt cx="1121760" cy="107856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6072120" y="4624920"/>
                    <a:ext cx="96804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y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y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y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lycine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5995440" y="4624920"/>
                    <a:ext cx="112176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117560" y="4624920"/>
                  <a:ext cx="1134720" cy="1078560"/>
                  <a:chOff x="7117560" y="4624920"/>
                  <a:chExt cx="1134720" cy="10785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194600" y="4624920"/>
                    <a:ext cx="980280" cy="107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U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C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A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f8fafa"/>
                        </a:solidFill>
                        <a:latin typeface="Arial"/>
                        <a:ea typeface="Times New Roman"/>
                      </a:rPr>
                      <a:t>G</a:t>
                    </a: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117560" y="4624920"/>
                    <a:ext cx="1134720" cy="1078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2d2525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971640" y="1363680"/>
                <a:ext cx="7286760" cy="434340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2520" y="2735280"/>
              <a:ext cx="1162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irst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RNA 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67240" y="906480"/>
              <a:ext cx="297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econd mRNA Base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44000" y="2775240"/>
              <a:ext cx="107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hird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08240" y="259920"/>
            <a:ext cx="321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afa"/>
                </a:solidFill>
                <a:latin typeface="Times New Roman"/>
              </a:rPr>
              <a:t>Example:</a:t>
            </a:r>
            <a:endParaRPr b="1" lang="en-US" sz="50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2162160"/>
            <a:ext cx="914400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afa"/>
                </a:solidFill>
                <a:latin typeface="Times New Roman"/>
              </a:rPr>
              <a:t>DNA: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TAC – AGG – GGT - ACG – CCG – AAT – GGG – ATT –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1924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RNA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UG – UCC – CCA – UGC – GGC – UUA – CCC – UAA -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4040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fafa"/>
                </a:solidFill>
                <a:latin typeface="Times New Roman"/>
              </a:rPr>
              <a:t>tRNA:</a:t>
            </a:r>
            <a:r>
              <a:rPr b="1" lang="en-US" sz="25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afa"/>
                </a:solidFill>
                <a:latin typeface="Times New Roman"/>
              </a:rPr>
              <a:t>UAC – AGG – GGU – ACG – CCG – AAU – GGG – AUU -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5087880"/>
            <a:ext cx="1279440" cy="907560"/>
            <a:chOff x="0" y="5087880"/>
            <a:chExt cx="1279440" cy="907560"/>
          </a:xfrm>
        </p:grpSpPr>
        <p:sp>
          <p:nvSpPr>
            <p:cNvPr id="355" name=""/>
            <p:cNvSpPr/>
            <p:nvPr/>
          </p:nvSpPr>
          <p:spPr>
            <a:xfrm>
              <a:off x="0" y="5087880"/>
              <a:ext cx="106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afa"/>
                  </a:solidFill>
                  <a:latin typeface="Times New Roman"/>
                </a:rPr>
                <a:t>Amino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553572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afa"/>
                  </a:solidFill>
                  <a:latin typeface="Times New Roman"/>
                </a:rPr>
                <a:t>Acid: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112760" y="515304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5165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3080" y="5191200"/>
            <a:ext cx="14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35520" y="516744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y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62520" y="515304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ly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99160" y="516096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u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11760" y="513864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62800" y="513720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TOP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af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-209520" y="1596960"/>
            <a:ext cx="9144000" cy="4419720"/>
            <a:chOff x="-209520" y="1596960"/>
            <a:chExt cx="9144000" cy="4419720"/>
          </a:xfrm>
        </p:grpSpPr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-209520" y="1620720"/>
              <a:ext cx="9144000" cy="43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132680" y="3236760"/>
              <a:ext cx="565200" cy="820800"/>
            </a:xfrm>
            <a:prstGeom prst="ellipse">
              <a:avLst/>
            </a:prstGeom>
            <a:noFill/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98880" y="3062160"/>
              <a:ext cx="442800" cy="700200"/>
            </a:xfrm>
            <a:prstGeom prst="ellipse">
              <a:avLst/>
            </a:prstGeom>
            <a:noFill/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41880" y="3762360"/>
              <a:ext cx="0" cy="914400"/>
            </a:xfrm>
            <a:prstGeom prst="line">
              <a:avLst/>
            </a:prstGeom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17880" y="4637160"/>
              <a:ext cx="10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Codon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683480" y="2026800"/>
              <a:ext cx="0" cy="1492200"/>
            </a:xfrm>
            <a:prstGeom prst="line">
              <a:avLst/>
            </a:prstGeom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12080" y="15969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Anticodon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72880" y="118800"/>
            <a:ext cx="65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afa"/>
                </a:solidFill>
                <a:latin typeface="Arial"/>
              </a:rPr>
              <a:t>2.  Rules for Base Pairing:</a:t>
            </a:r>
            <a:endParaRPr b="1" lang="en-US" sz="4000" spc="-1" strike="noStrike">
              <a:solidFill>
                <a:srgbClr val="f8fafa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1828800"/>
            <a:ext cx="6553080" cy="1305720"/>
            <a:chOff x="2057400" y="1828800"/>
            <a:chExt cx="6553080" cy="1305720"/>
          </a:xfrm>
        </p:grpSpPr>
        <p:sp>
          <p:nvSpPr>
            <p:cNvPr id="108" name=""/>
            <p:cNvSpPr/>
            <p:nvPr/>
          </p:nvSpPr>
          <p:spPr>
            <a:xfrm>
              <a:off x="2057400" y="1828800"/>
              <a:ext cx="655308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A.     Cytosine       Guanine </a:t>
              </a:r>
              <a:endParaRPr b="0" lang="en-US" sz="36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          </a:t>
              </a: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(C       G)</a:t>
              </a:r>
              <a:endParaRPr b="0" lang="en-US" sz="3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105520" y="2057400"/>
              <a:ext cx="609480" cy="304920"/>
              <a:chOff x="5105520" y="2057400"/>
              <a:chExt cx="609480" cy="304920"/>
            </a:xfrm>
          </p:grpSpPr>
          <p:sp>
            <p:nvSpPr>
              <p:cNvPr id="110" name=""/>
              <p:cNvSpPr/>
              <p:nvPr/>
            </p:nvSpPr>
            <p:spPr>
              <a:xfrm>
                <a:off x="5105520" y="20574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05520" y="22100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05520" y="236232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038480" y="2666880"/>
              <a:ext cx="609840" cy="304920"/>
              <a:chOff x="4038480" y="2666880"/>
              <a:chExt cx="609840" cy="304920"/>
            </a:xfrm>
          </p:grpSpPr>
          <p:sp>
            <p:nvSpPr>
              <p:cNvPr id="114" name=""/>
              <p:cNvSpPr/>
              <p:nvPr/>
            </p:nvSpPr>
            <p:spPr>
              <a:xfrm>
                <a:off x="4038480" y="26668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038480" y="281952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038480" y="29718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073240" y="5208480"/>
            <a:ext cx="6400800" cy="1295640"/>
            <a:chOff x="2073240" y="5208480"/>
            <a:chExt cx="6400800" cy="1295640"/>
          </a:xfrm>
        </p:grpSpPr>
        <p:sp>
          <p:nvSpPr>
            <p:cNvPr id="118" name=""/>
            <p:cNvSpPr/>
            <p:nvPr/>
          </p:nvSpPr>
          <p:spPr>
            <a:xfrm>
              <a:off x="2073240" y="5208480"/>
              <a:ext cx="6400800" cy="129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81240" y="5218200"/>
              <a:ext cx="581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fafa"/>
                  </a:solidFill>
                  <a:latin typeface="Arial"/>
                </a:rPr>
                <a:t>Notice that RNA has Uracil (not thymine)</a:t>
              </a:r>
              <a:endParaRPr b="0" lang="en-US" sz="3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057400" y="3581280"/>
            <a:ext cx="5791320" cy="1305720"/>
            <a:chOff x="2057400" y="3581280"/>
            <a:chExt cx="5791320" cy="1305720"/>
          </a:xfrm>
        </p:grpSpPr>
        <p:sp>
          <p:nvSpPr>
            <p:cNvPr id="121" name=""/>
            <p:cNvSpPr/>
            <p:nvPr/>
          </p:nvSpPr>
          <p:spPr>
            <a:xfrm>
              <a:off x="2057400" y="3581280"/>
              <a:ext cx="579132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B.     Adenine        Uracil</a:t>
              </a:r>
              <a:endParaRPr b="0" lang="en-US" sz="36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36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(A       U)</a:t>
              </a:r>
              <a:endParaRPr b="0" lang="en-US" sz="3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908520" y="4497480"/>
              <a:ext cx="609480" cy="152280"/>
              <a:chOff x="3908520" y="4497480"/>
              <a:chExt cx="609480" cy="152280"/>
            </a:xfrm>
          </p:grpSpPr>
          <p:sp>
            <p:nvSpPr>
              <p:cNvPr id="123" name=""/>
              <p:cNvSpPr/>
              <p:nvPr/>
            </p:nvSpPr>
            <p:spPr>
              <a:xfrm>
                <a:off x="3908520" y="44974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08520" y="4649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124600" y="3852720"/>
              <a:ext cx="609480" cy="152280"/>
              <a:chOff x="5124600" y="3852720"/>
              <a:chExt cx="609480" cy="152280"/>
            </a:xfrm>
          </p:grpSpPr>
          <p:sp>
            <p:nvSpPr>
              <p:cNvPr id="126" name=""/>
              <p:cNvSpPr/>
              <p:nvPr/>
            </p:nvSpPr>
            <p:spPr>
              <a:xfrm>
                <a:off x="5124600" y="385272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24600" y="40050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33440" y="17319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* helps to make protein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9080" y="3197160"/>
            <a:ext cx="6019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afa"/>
                </a:solidFill>
                <a:latin typeface="Arial"/>
              </a:rPr>
              <a:t>4.  Types of RNA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A.  Messenger (mRNA)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B.  Transfer (tRNA)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.  Ribosomal (rRNA)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952280" y="-360"/>
            <a:ext cx="6808680" cy="1618200"/>
            <a:chOff x="1952280" y="-360"/>
            <a:chExt cx="6808680" cy="1618200"/>
          </a:xfrm>
        </p:grpSpPr>
        <p:sp>
          <p:nvSpPr>
            <p:cNvPr id="131" name="PlaceHolder 1"/>
            <p:cNvSpPr>
              <a:spLocks noGrp="1"/>
            </p:cNvSpPr>
            <p:nvPr>
              <p:ph type="title"/>
            </p:nvPr>
          </p:nvSpPr>
          <p:spPr>
            <a:xfrm>
              <a:off x="1952280" y="-360"/>
              <a:ext cx="68086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lnSpc>
                  <a:spcPct val="100000"/>
                </a:lnSpc>
                <a:spcBef>
                  <a:spcPts val="25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8fafa"/>
                  </a:solidFill>
                  <a:latin typeface="Arial"/>
                </a:rPr>
                <a:t>3.  What is the function</a:t>
              </a:r>
              <a:endParaRPr b="1" lang="en-US" sz="4000" spc="-1" strike="noStrike">
                <a:solidFill>
                  <a:srgbClr val="f8faf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76680" y="914400"/>
              <a:ext cx="292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8fafa"/>
                  </a:solidFill>
                  <a:latin typeface="Arial"/>
                </a:rPr>
                <a:t>of RNA?</a:t>
              </a:r>
              <a:endParaRPr b="0" lang="en-US" sz="4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NA2" descr=""/>
          <p:cNvPicPr/>
          <p:nvPr/>
        </p:nvPicPr>
        <p:blipFill>
          <a:blip r:embed="rId1"/>
          <a:stretch/>
        </p:blipFill>
        <p:spPr>
          <a:xfrm>
            <a:off x="2260440" y="696960"/>
            <a:ext cx="5943600" cy="5351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74840" y="4048200"/>
            <a:ext cx="0" cy="144756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2080" y="5038560"/>
            <a:ext cx="0" cy="99072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699080" y="1685520"/>
            <a:ext cx="0" cy="609480"/>
          </a:xfrm>
          <a:prstGeom prst="line">
            <a:avLst/>
          </a:prstGeom>
          <a:ln w="381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06760" y="5527800"/>
            <a:ext cx="16002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525"/>
                </a:solidFill>
                <a:latin typeface="Arial"/>
              </a:rPr>
              <a:t>Sugar</a:t>
            </a:r>
            <a:endParaRPr b="0" lang="en-US" sz="30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afa"/>
                </a:solidFill>
                <a:latin typeface="Arial"/>
              </a:rPr>
              <a:t>(ribose)</a:t>
            </a:r>
            <a:endParaRPr b="0" lang="en-US" sz="3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96120" y="607392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afa"/>
                </a:solidFill>
                <a:latin typeface="Arial"/>
              </a:rPr>
              <a:t>Phosphate Group</a:t>
            </a:r>
            <a:endParaRPr b="0" lang="en-US" sz="3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07920" y="1087560"/>
            <a:ext cx="259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525"/>
                </a:solidFill>
                <a:latin typeface="Arial"/>
              </a:rPr>
              <a:t>Nitrogen Base</a:t>
            </a:r>
            <a:endParaRPr b="0" lang="en-US" sz="3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88920" y="275760"/>
            <a:ext cx="516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omparing DNA &amp; RNA</a:t>
            </a:r>
            <a:endParaRPr b="1" lang="en-US" sz="3600" spc="-1" strike="noStrike">
              <a:solidFill>
                <a:srgbClr val="f8fafa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57400" y="1395360"/>
          <a:ext cx="6858000" cy="4950000"/>
        </p:xfrm>
        <a:graphic>
          <a:graphicData uri="http://schemas.openxmlformats.org/drawingml/2006/table">
            <a:tbl>
              <a:tblPr/>
              <a:tblGrid>
                <a:gridCol w="2743200"/>
                <a:gridCol w="1676520"/>
                <a:gridCol w="2438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D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R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Sugar is deoxyribose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Sugar is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ribose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Adenine base is present</a:t>
                      </a: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Cytosine base is present</a:t>
                      </a: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7378560" y="342900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9720" y="235116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18280" y="5508720"/>
            <a:ext cx="2779560" cy="646560"/>
            <a:chOff x="5318280" y="5508720"/>
            <a:chExt cx="2779560" cy="646560"/>
          </a:xfrm>
        </p:grpSpPr>
        <p:sp>
          <p:nvSpPr>
            <p:cNvPr id="145" name=""/>
            <p:cNvSpPr/>
            <p:nvPr/>
          </p:nvSpPr>
          <p:spPr>
            <a:xfrm>
              <a:off x="5318280" y="5508720"/>
              <a:ext cx="5331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64320" y="552780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316480" y="4510080"/>
            <a:ext cx="2583000" cy="628920"/>
            <a:chOff x="5316480" y="4510080"/>
            <a:chExt cx="2583000" cy="628920"/>
          </a:xfrm>
        </p:grpSpPr>
        <p:sp>
          <p:nvSpPr>
            <p:cNvPr id="148" name=""/>
            <p:cNvSpPr/>
            <p:nvPr/>
          </p:nvSpPr>
          <p:spPr>
            <a:xfrm>
              <a:off x="5316480" y="451008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65960" y="451152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057400" y="1395360"/>
          <a:ext cx="6858000" cy="4857840"/>
        </p:xfrm>
        <a:graphic>
          <a:graphicData uri="http://schemas.openxmlformats.org/drawingml/2006/table">
            <a:tbl>
              <a:tblPr/>
              <a:tblGrid>
                <a:gridCol w="2743200"/>
                <a:gridCol w="1676520"/>
                <a:gridCol w="243828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D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R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Guanine base is present</a:t>
                      </a: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Thymine base is present</a:t>
                      </a: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Uracil base is present</a:t>
                      </a: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Shape is double helix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32120" y="242640"/>
            <a:ext cx="53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omparing DNA &amp; RNA</a:t>
            </a:r>
            <a:endParaRPr b="1" lang="en-US" sz="3600" spc="-1" strike="noStrike">
              <a:solidFill>
                <a:srgbClr val="f8faf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429000"/>
            <a:ext cx="533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85120" y="439884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76880" y="533232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54560" y="2400480"/>
            <a:ext cx="2710080" cy="644760"/>
            <a:chOff x="5254560" y="2400480"/>
            <a:chExt cx="2710080" cy="644760"/>
          </a:xfrm>
        </p:grpSpPr>
        <p:sp>
          <p:nvSpPr>
            <p:cNvPr id="156" name=""/>
            <p:cNvSpPr/>
            <p:nvPr/>
          </p:nvSpPr>
          <p:spPr>
            <a:xfrm>
              <a:off x="5254560" y="240048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31120" y="241776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40080" y="259920"/>
            <a:ext cx="524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omparing DNA &amp; RNA</a:t>
            </a:r>
            <a:endParaRPr b="1" lang="en-US" sz="3600" spc="-1" strike="noStrike">
              <a:solidFill>
                <a:srgbClr val="f8fafa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57400" y="1395360"/>
          <a:ext cx="6858000" cy="4857840"/>
        </p:xfrm>
        <a:graphic>
          <a:graphicData uri="http://schemas.openxmlformats.org/drawingml/2006/table">
            <a:tbl>
              <a:tblPr/>
              <a:tblGrid>
                <a:gridCol w="2819520"/>
                <a:gridCol w="1828800"/>
                <a:gridCol w="220968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D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R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Shape is single stranded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Located in nucleus only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Composed of nucleotides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Stores genetic information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5334120" y="3429000"/>
            <a:ext cx="533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56160" y="544680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7320" y="2422440"/>
            <a:ext cx="533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8fafa"/>
                </a:solidFill>
                <a:latin typeface="Arial"/>
                <a:ea typeface="Times New Roman"/>
              </a:rPr>
              <a:t>√</a:t>
            </a:r>
            <a:endParaRPr b="0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64000" y="4484520"/>
            <a:ext cx="2476440" cy="649080"/>
            <a:chOff x="5364000" y="4484520"/>
            <a:chExt cx="2476440" cy="649080"/>
          </a:xfrm>
        </p:grpSpPr>
        <p:sp>
          <p:nvSpPr>
            <p:cNvPr id="164" name=""/>
            <p:cNvSpPr/>
            <p:nvPr/>
          </p:nvSpPr>
          <p:spPr>
            <a:xfrm>
              <a:off x="7299720" y="4506120"/>
              <a:ext cx="540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64000" y="4484520"/>
              <a:ext cx="540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89360" y="242640"/>
            <a:ext cx="513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afa"/>
                </a:solidFill>
                <a:latin typeface="Arial"/>
              </a:rPr>
              <a:t>Comparing DNA &amp; RNA</a:t>
            </a:r>
            <a:endParaRPr b="1" lang="en-US" sz="3600" spc="-1" strike="noStrike">
              <a:solidFill>
                <a:srgbClr val="f8fafa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57400" y="1542960"/>
          <a:ext cx="6858000" cy="4281480"/>
        </p:xfrm>
        <a:graphic>
          <a:graphicData uri="http://schemas.openxmlformats.org/drawingml/2006/table">
            <a:tbl>
              <a:tblPr/>
              <a:tblGrid>
                <a:gridCol w="3048120"/>
                <a:gridCol w="1752480"/>
                <a:gridCol w="2057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D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f8fafa"/>
                          </a:solidFill>
                          <a:latin typeface="Times New Roman"/>
                        </a:rPr>
                        <a:t>RNA</a:t>
                      </a:r>
                      <a:endParaRPr b="0" lang="en-US" sz="35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1368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8fafa"/>
                          </a:solidFill>
                          <a:latin typeface="Times New Roman"/>
                          <a:ea typeface="Times New Roman"/>
                        </a:rPr>
                        <a:t>Helps to make proteins</a:t>
                      </a:r>
                      <a:endParaRPr b="0" lang="en-US" sz="30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576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525"/>
                      </a:solidFill>
                    </a:lnL>
                    <a:lnR w="576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d2525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d2525"/>
                      </a:solidFill>
                    </a:lnL>
                    <a:lnR w="13680">
                      <a:solidFill>
                        <a:srgbClr val="2d2525"/>
                      </a:solidFill>
                    </a:lnR>
                    <a:lnT w="5760">
                      <a:solidFill>
                        <a:srgbClr val="2d2525"/>
                      </a:solidFill>
                    </a:lnT>
                    <a:lnB w="13680">
                      <a:solidFill>
                        <a:srgbClr val="2d2525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5657760" y="2538360"/>
            <a:ext cx="2443320" cy="659160"/>
            <a:chOff x="5657760" y="2538360"/>
            <a:chExt cx="2443320" cy="659160"/>
          </a:xfrm>
        </p:grpSpPr>
        <p:sp>
          <p:nvSpPr>
            <p:cNvPr id="169" name=""/>
            <p:cNvSpPr/>
            <p:nvPr/>
          </p:nvSpPr>
          <p:spPr>
            <a:xfrm>
              <a:off x="7567560" y="2570040"/>
              <a:ext cx="5335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8fafa"/>
                  </a:solidFill>
                  <a:latin typeface="Arial"/>
                  <a:ea typeface="Times New Roman"/>
                </a:rPr>
                <a:t>√</a:t>
              </a:r>
              <a:endParaRPr b="0" lang="en-US" sz="35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57760" y="2538360"/>
              <a:ext cx="5335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9:34:53Z</dcterms:created>
  <dc:creator>Plano ISD</dc:creator>
  <dc:description/>
  <dc:language>en-US</dc:language>
  <cp:lastModifiedBy>Amy Schilling</cp:lastModifiedBy>
  <dcterms:modified xsi:type="dcterms:W3CDTF">2007-12-18T17:54:34Z</dcterms:modified>
  <cp:revision>46</cp:revision>
  <dc:subject/>
  <dc:title>Understanding DNA</dc:title>
</cp:coreProperties>
</file>